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DAB-77E3-4003-B485-560D8CA5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5B1-AF49-4574-8831-C4DA45B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A6E-C4B5-4BEF-9B10-AEC32A30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0C4-EF72-4A0A-B60A-E0BBF42E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4DE-40B8-40EF-9910-9061044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EDC-BFE4-4728-9493-120EBC5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FA0-60BC-4750-9493-5F6398A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02D-A6D4-47D1-854B-3D5054D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257-B8CE-4367-80C9-9051B501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B79-204D-4B3A-B28C-AD199753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96E-993D-4E5A-87CE-AC11F3D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A15-1FE5-438A-8CE6-4FD3D46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163-BC3D-436C-A061-DA96BF28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ver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smith workers in 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that are silversmith use these type off tools such as an anvils, hammers, and anv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s s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ffeepots, bowls, cups, and oter types of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elt sterling silver to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lversmith lives in a small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lversmith sometimes gets to keep the things he/she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ce I got this  information is at history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20:42Z</dcterms:created>
  <dc:creator>Orange County Schools</dc:creator>
  <dc:description/>
  <dc:language>en-US</dc:language>
  <cp:lastModifiedBy>Orange County Schools</cp:lastModifiedBy>
  <dcterms:modified xsi:type="dcterms:W3CDTF">2010-05-03T14:47:41Z</dcterms:modified>
  <cp:revision>4</cp:revision>
  <dc:subject/>
  <dc:title>Silversmith</dc:title>
</cp:coreProperties>
</file>